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3379-500E-486E-ACE3-162D5A7E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92A4-64CE-47B4-A1A0-9632B2A2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E10D-F6AE-4716-83CA-0FF0090F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9A8F-83E2-43D0-B0EA-14F8207F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544F-7E64-4795-A302-0BFE81E2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4CBC-A00A-477A-A99B-DF597054F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19FB-DFC1-49A8-926B-2DF881B9D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25CD-D0A3-43DD-A8E8-B4E0AB4F2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AA33-D5E2-4C71-B425-40684D03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20D6-FB9C-43C6-98C5-63BB6348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9D5-C5C6-4788-9FAE-C0F0E6A99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990-55F6-44C1-BFE3-92EC78F02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95BC-47C7-432B-9A7A-EE83801D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3B80-F396-4AE9-A042-E37C6E528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4998-F585-4106-81B8-A171B6C5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A959-7AEA-4897-9837-705DF669D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FB13-F869-4B78-AD45-61E4DA6C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69B-4CC2-457C-936C-C9D2F7D0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DE0-FD58-41F8-8878-EE963EBD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F50F-355B-4008-972F-09A3C047F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1F23-1920-4FF2-82C7-8F7B698E3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4E14-DA00-4B39-BA60-E0CE6B06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8E33-57A3-4D93-8786-05FBC18DA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081C-94BF-4AC5-A7AA-48C78D8DF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29A5-4499-4269-90BE-2874A586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3880-4779-4A6B-8DCB-6D9BA250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E817-0995-482B-82EB-6B2DADE41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E992-0AFB-4E60-A3B3-1F7F75A4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6DD-B0AE-4780-B013-EFFB11AC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6D7-AA04-46D6-9825-3E4E3486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A02D-B38C-4056-9901-BF1464FC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3CCD-5C54-4E74-AD3D-F396B220A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58B-05E5-4239-BA8B-45B9976B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EC9-E07B-49E4-9349-3A50609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ED33A-B40A-4001-BF91-48973EA3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02354-F19B-4829-A3B2-263C118D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BD8DD-D416-4E76-8633-52E2D7EB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4FF0C-1CC6-46A6-BCBA-15BF2279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740C-3041-408E-B211-BADB7B0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39C5E-AE03-427B-B307-DA67C1A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3E382-6D29-44BD-A1F4-C00DB49B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52A8F-7594-4296-B663-0CBE8B74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41E6-3132-4671-B9CA-E287EB90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82107-53D8-487D-AC74-19462886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4F1-E073-4CA0-89F5-9EB1FE1A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B382A-D353-4574-867F-AF1D31AB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8FDC3-AB01-445E-ACF7-CF34C809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19C40-405B-4FA3-9515-432AF7C6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0BB08-F641-4B0A-A8CB-A2C7B9EA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4E790-333D-4F33-9311-2764EC47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3EDC5-A94D-498C-829C-675441FC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FEF9B-6041-4F99-9008-995CFDD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6B78A-058E-4AFB-8F0E-B4F44FB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FA8C6-49F3-430C-A563-71AF98A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110BD-7482-4CF0-B4A1-37088BA5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E24-D776-4739-A7F6-C4FA1A6C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6480F-7E16-4C60-936E-07227D64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F4E95-0656-434F-AB3E-D432A8A9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A5351-9324-45E3-A2FE-82A319A4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BE068-DA68-4141-B171-06205A62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25F4-803C-46A5-B27F-C97D8A7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61364-5F91-4A97-BEDD-BF6BF662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8E867-FF49-4E9B-B840-18651386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3049E-7373-4019-AB30-AD134A0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1DE9D-9283-4E44-90C8-672C2F3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F63B7-4C6B-4C33-98F5-9CB016E4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06A4-8199-4C1E-9FF6-5534CAF4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2047B-9A0C-4313-8B2F-0210E775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66312-AC9B-41BD-B12B-262D44FD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A057C-BA94-4D4B-9C03-1685D6DE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98DE5-1B5F-4288-92D6-165B660C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E62C8-7D4F-4F68-9DA0-B803224B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1D979-B7D4-4D31-A673-C224557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0A4E0-E3C0-4C0C-97C7-A0A79CAD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D9CD3-D5AE-4A06-8F67-432F7871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691BA-6243-4402-890F-DA51EC1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F24EF-F6C7-4CF8-98A7-67215CD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1386-03A3-491F-ADC6-3DB05A8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0DC5C-B4B8-4FBD-8431-6C396D0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47275-71D0-4343-AA6C-6473A7B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658AF-1A4F-4967-B147-6B464BB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F3322-3EA6-45BB-9359-1CD68A6E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B5ED5-3094-4E6D-AE5B-6BC8570C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BB3B-C204-4B2E-A2EE-A067A7FC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7CD-F664-4AA7-834D-213DDEA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78DB-9149-4AF6-B8C0-1876111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2861-B131-4BEA-84E0-C903784A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170F-B401-4877-B61A-C56B626F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64C-C13E-43BB-8DC9-E01BD33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E2FA-C50B-41D0-AADD-1B64582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1483-19AA-4A95-85D8-E5EECD5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4D9-02A6-4EFC-B42C-CFC48EFC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71AA-78D1-4DC0-B0BE-3C8FB9BB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079B-9256-40F1-BA6C-36DA4DF5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D986-E206-4553-811E-83CCBE04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FC28-C956-4E2D-8CCB-A1870AC9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9315-7B4C-4169-A131-4F62D74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3CD4-043E-4F99-A9D0-9211F564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90A6-D335-4030-B2EF-D1ABC302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7F7-40D1-4059-9DCF-391EBE29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490B-EA17-45BD-81E3-BECDDA4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BC84-F468-46E3-ADA1-370AB22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9F6C-9BA2-487E-9D4E-E714252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6CFF-FFCA-4851-98FE-6725C2A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7D56-C191-49E4-86FB-D0E3F2D4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42D3-F9C0-481C-A7A4-49CA2E24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7B98-52F3-4D07-8B20-3F1F0A95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ABB5-EB13-4CC9-B294-AAE2A261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FA56-D769-4152-803D-8DB38189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1685-E0C3-4F9A-B55A-503ED8F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4E9-A77B-4606-8BB9-844EA186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2739-7F73-48A6-B156-C1BC1076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F338-EF68-4688-B68D-3420859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67F47-D84C-4127-9126-CF9C3FE5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0030-A918-442A-869D-B152B409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9F17-8ED5-4CDC-9FCE-893B9C1A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DF0A-0CA6-4ABF-8195-18032B8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C9F7-8DC1-4604-BFBF-360CA135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8FE8-E112-4713-953E-86CF3516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CA44-0D0C-4C05-8BC8-6663C432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AB5F8-CAEC-478B-B45A-5D749E6E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A43-5134-486B-B2F8-4DE7F1BE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14473-D3BA-45D3-9856-583462F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FEC6-8CF1-4D61-AE39-5831FFC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C3C3B-2B1C-4694-A2A4-4A750AB5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F2D5-5C57-42EC-AE5D-CD9FD720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8C9E-EB0F-4B88-8D68-8F1A5F90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0E60-0252-434B-B4DC-0D9B616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82E6-38E4-43F7-8BAF-5304E490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B035C-0F15-4F71-BA2C-F719A49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FD9F-0187-4014-ADAC-FA2E1CF5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20CB-402D-43C4-A01D-BB410944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40D-372B-4EF4-864D-6E01A5A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5EA84-AF62-4082-9C6A-E15312EC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8BBD-C96E-4799-82EF-F176E045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5BF3-1947-49C4-8145-36907D89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9E41-4847-451F-B31E-A43AF5C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D6754-6975-4481-AFD1-479BD052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E08E-F404-45EA-8A9B-F027E508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F11A-E839-4D2A-9810-AFC98D6A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850B8-30F2-4539-8A6A-998BB9C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7480-EA15-4F10-A9DF-ED1F4BC4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BBCD-9620-4B95-A7AF-DEDB747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22E-1638-44CF-8BBB-E669CA9D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D250-D17C-41A7-A3B2-B62B2337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2095-F3AC-4ED1-83AE-687B931D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5509-ADB7-4E77-89BA-60C1FC2E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F985-47DC-4A42-815F-B409D2AB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4CA43-E6BC-4059-A735-CD1600F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88CAC-6790-4A06-ACCD-DE8CCD9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06D58-9D7F-457A-AE89-9058E25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9E5EF-05DB-4A8D-9377-15B1DF13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2F61-070B-46E7-85EC-398C6009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11A9-3B84-4E64-8D1A-1EC24DE0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E1B-8C3B-4712-B7AE-AB55746C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C6A3-1B03-48C7-ACB7-42D6A05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816F7-EE94-43CF-B994-A2D16616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F1FC7-987F-422B-9D64-C1499A7E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8C1CD-78E9-4690-AE41-356193CB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B6551-A64D-49D1-B0AC-128D0C40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4A69-9E3D-453C-9B7A-4C39F77D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C8606-BB07-40C4-B5E8-FD92C76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D37BC-8741-4AC9-B55D-024024C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14B0-8E97-467A-B367-837387B0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C100F-9508-472F-A603-D6EBA03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BF2-9CE5-4A00-B09A-FD7C138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6F0E-D47A-4B2C-9B54-03828BB1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C606-A6B6-420F-A94F-562F2BFA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73A69-E6C0-4848-AC37-A4EE4383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0941A-66F8-4381-9C20-A522290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895D-0F09-4CC5-B3D3-7EDEEED4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64E2-8DC3-4B97-B923-EA0FF2A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70245-5D07-41E6-91B5-7D93983B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EE4FF-1B1C-4F65-8568-6FD0E013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B0A1F-BC8D-4269-B304-93062A9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1C05D-8824-40CB-B47D-167D3D62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1B0-E35A-4FED-BADB-2F87A4217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CBA-5931-4C24-AC52-4B44FCA9D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5542-F8CF-4173-8509-E8868CECD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FB7-E1AF-45C7-900F-C083BBCEC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3A5-5014-40EE-A93E-826304BFA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112D-CA8A-441E-BA16-09A02008E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F5FF-D03F-4DB6-8B61-701D3E81F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B01C-0B25-4748-A122-77D78EA2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9B5-A15B-42B4-9E2A-921D8B7F0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B19-3878-4FE7-AB65-77BED65E2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5A2D-ABB1-46AF-8F60-BE25A0F6A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E27-6AF1-4A8F-81C2-F43AABE29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2">
            <a:hlinkClick r:id="rId7" action="ppaction://hlinksldjump"/>
          </p:cNvPr>
          <p:cNvSpPr/>
          <p:nvPr/>
        </p:nvSpPr>
        <p:spPr>
          <a:xfrm>
            <a:off x="18288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3">
            <a:hlinkClick r:id="rId9" action="ppaction://hlinksldjump"/>
          </p:cNvPr>
          <p:cNvSpPr/>
          <p:nvPr/>
        </p:nvSpPr>
        <p:spPr>
          <a:xfrm>
            <a:off x="18288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6"/>
          <p:cNvSpPr/>
          <p:nvPr/>
        </p:nvSpPr>
        <p:spPr>
          <a:xfrm>
            <a:off x="36576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7"/>
          <p:cNvSpPr/>
          <p:nvPr/>
        </p:nvSpPr>
        <p:spPr>
          <a:xfrm>
            <a:off x="36576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8"/>
          <p:cNvSpPr/>
          <p:nvPr/>
        </p:nvSpPr>
        <p:spPr>
          <a:xfrm>
            <a:off x="36576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1"/>
          <p:cNvSpPr/>
          <p:nvPr/>
        </p:nvSpPr>
        <p:spPr>
          <a:xfrm>
            <a:off x="54864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2"/>
          <p:cNvSpPr/>
          <p:nvPr/>
        </p:nvSpPr>
        <p:spPr>
          <a:xfrm>
            <a:off x="54864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3"/>
          <p:cNvSpPr/>
          <p:nvPr/>
        </p:nvSpPr>
        <p:spPr>
          <a:xfrm>
            <a:off x="54864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6"/>
          <p:cNvSpPr/>
          <p:nvPr/>
        </p:nvSpPr>
        <p:spPr>
          <a:xfrm>
            <a:off x="73152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7"/>
          <p:cNvSpPr/>
          <p:nvPr/>
        </p:nvSpPr>
        <p:spPr>
          <a:xfrm>
            <a:off x="73152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8"/>
          <p:cNvSpPr/>
          <p:nvPr/>
        </p:nvSpPr>
        <p:spPr>
          <a:xfrm>
            <a:off x="73152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0"/>
          <p:cNvSpPr/>
          <p:nvPr/>
        </p:nvSpPr>
        <p:spPr>
          <a:xfrm>
            <a:off x="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059"/>
          <p:cNvSpPr/>
          <p:nvPr/>
        </p:nvSpPr>
        <p:spPr>
          <a:xfrm>
            <a:off x="485280" y="1676520"/>
            <a:ext cx="82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tough polyester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to make bullet proof v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Kevl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040"/>
          <p:cNvSpPr/>
          <p:nvPr/>
        </p:nvSpPr>
        <p:spPr>
          <a:xfrm>
            <a:off x="-121320" y="1752480"/>
            <a:ext cx="931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variation of polyethylene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in crinkly opaque plastics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D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physical properties of polymer can be changed by shortening or lengthen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h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DPE is transparent whereas HDPE is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paq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polymerization of highly branched monomers result in this type of soli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moreho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99880" y="990720"/>
            <a:ext cx="85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" descr="Teflon_structure.PNG"/>
          <p:cNvPicPr/>
          <p:nvPr/>
        </p:nvPicPr>
        <p:blipFill>
          <a:blip r:embed="rId1"/>
          <a:stretch/>
        </p:blipFill>
        <p:spPr>
          <a:xfrm>
            <a:off x="2438280" y="2133720"/>
            <a:ext cx="4183200" cy="365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mall molecules are the basic unit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mono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The structural formula of a polymer uses these to indicate a repeating uni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are parenthe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ructural formula of a polymer, a variable (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used to represent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hain leng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 polymerization reactions typically occur between these types of aliphatic hydrocarb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lxen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densation polymerization results in the elimination of a smaller molecules. A common by product i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olyterafluoroetha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fl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1034"/>
          <p:cNvSpPr/>
          <p:nvPr/>
        </p:nvSpPr>
        <p:spPr>
          <a:xfrm>
            <a:off x="4098960" y="1521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35"/>
          <p:cNvSpPr/>
          <p:nvPr/>
        </p:nvSpPr>
        <p:spPr>
          <a:xfrm>
            <a:off x="-187200" y="1219320"/>
            <a:ext cx="95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roduc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erization of octandioic acid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mino octa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ylon 6,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2228400" y="1322280"/>
            <a:ext cx="468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1" descr="218px-Polystyrene.svg.png"/>
          <p:cNvPicPr/>
          <p:nvPr/>
        </p:nvPicPr>
        <p:blipFill>
          <a:blip r:embed="rId1"/>
          <a:stretch/>
        </p:blipFill>
        <p:spPr>
          <a:xfrm>
            <a:off x="3187800" y="2666880"/>
            <a:ext cx="2768400" cy="330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styr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benze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6"/>
          <p:cNvSpPr/>
          <p:nvPr/>
        </p:nvSpPr>
        <p:spPr>
          <a:xfrm>
            <a:off x="2422080" y="103680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1" descr="mfcd00197928.png"/>
          <p:cNvPicPr/>
          <p:nvPr/>
        </p:nvPicPr>
        <p:blipFill>
          <a:blip r:embed="rId1"/>
          <a:stretch/>
        </p:blipFill>
        <p:spPr>
          <a:xfrm>
            <a:off x="2730600" y="2362320"/>
            <a:ext cx="3682800" cy="238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olybutylacetat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olybutylethano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065"/>
          <p:cNvSpPr/>
          <p:nvPr/>
        </p:nvSpPr>
        <p:spPr>
          <a:xfrm>
            <a:off x="1319760" y="1905120"/>
            <a:ext cx="649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is polymer is commonl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sed in the making of pi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vinylchlori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VC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ser</cp:lastModifiedBy>
  <dcterms:modified xsi:type="dcterms:W3CDTF">2012-09-30T13:21:40Z</dcterms:modified>
  <cp:revision>49</cp:revision>
  <dc:subject/>
  <dc:title>No Slide Title</dc:title>
</cp:coreProperties>
</file>